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4.wmf" ContentType="image/x-wmf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96E02-02D3-40F2-8D2D-4140DF539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3953F-4611-4DE3-B91F-8CBDFCB1D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F99DF-275F-47D4-83CC-925D087AA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B88EA-7361-4DA0-A511-838394E85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93B39-5237-4C53-B236-CFCAD9AA1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90BD5-6532-47BF-93C6-B28F0F0DA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2291A-7F59-4FE8-8058-2BE70B59E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0113D-8F6D-4D82-9E9A-1C4CD01A1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30492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9B5DB-3856-4A08-8C6F-6B950A65C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F0DD4-8964-4EBD-9550-0C0D64EA4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43C8E-0C8B-4449-B0A6-CFCAAC7A1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5F426-E0CC-422C-8895-F9E4876B7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E43A3-1400-460A-A972-992654460D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828800" cy="98280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228600" y="1143000"/>
            <a:ext cx="8686800" cy="76320"/>
          </a:xfrm>
          <a:prstGeom prst="rect">
            <a:avLst/>
          </a:prstGeom>
          <a:gradFill rotWithShape="0">
            <a:gsLst>
              <a:gs pos="0">
                <a:srgbClr val="00475e"/>
              </a:gs>
              <a:gs pos="100000">
                <a:srgbClr val="0099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6360" bIns="36360" anchor="ctr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3160" y="1676520"/>
            <a:ext cx="79246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IMO/Stacking</a:t>
            </a:r>
            <a:br>
              <a:rPr sz="36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Including Tx SET Version 2.0)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st Implementation Success Repor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1B477-D92F-4F35-B0A8-86CF9258810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t Implementation Success Re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696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celled with Exce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ntity of orders cancelled for A95 – Cancelled with Excep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2.2 – Benefits 3,4, &amp;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rcRect l="0" t="16491" r="6956" b="6421"/>
          <a:stretch/>
        </p:blipFill>
        <p:spPr>
          <a:xfrm>
            <a:off x="311040" y="1828800"/>
            <a:ext cx="8070840" cy="4572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A54FF-D2F5-474E-89B8-217287DD571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t Implementation Success Re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696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valid ESI ID Re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ntity of Move-Ins rejected for A76 – Invalid ESI 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1.2 – Benefits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rcRect l="0" t="16491" r="6956" b="5141"/>
          <a:stretch/>
        </p:blipFill>
        <p:spPr>
          <a:xfrm>
            <a:off x="380880" y="1828800"/>
            <a:ext cx="8070840" cy="4648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3EDF2-734B-4BB1-9056-774A85A7FFA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t Implementation Success Re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696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cent of Drop to AREPs with an 814_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cent of Drop to AREP orders where ERCOT generated an 814_14 Enrollment Request to the AR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11.1b – Benefits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rcRect l="0" t="16491" r="6956" b="5141"/>
          <a:stretch/>
        </p:blipFill>
        <p:spPr>
          <a:xfrm>
            <a:off x="311040" y="1905120"/>
            <a:ext cx="8070840" cy="4647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26759-A9AB-478C-BD17-1536305B8C1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t Implementation Success Re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696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cent of Move-Out to CSAs with an 814_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cent of Move-Out to CSA orders where ERCOT generated an 814_22 Enrollment Request to the CSA C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12.1b – Benefits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rcRect l="0" t="16491" r="6956" b="5141"/>
          <a:stretch/>
        </p:blipFill>
        <p:spPr>
          <a:xfrm>
            <a:off x="387360" y="1905120"/>
            <a:ext cx="8070840" cy="4647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CEF54-2764-43BF-9ECE-32FC95A66CD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t Implementation Success Re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696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antity of Orphan Accou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DSPs provided quantity of Orphan Accounts at the end of each mon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5.1 – Benefits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rcRect l="0" t="16491" r="0" b="6421"/>
          <a:stretch/>
        </p:blipFill>
        <p:spPr>
          <a:xfrm>
            <a:off x="241200" y="1828800"/>
            <a:ext cx="8674200" cy="4572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297BB-1E13-4DF0-8CC2-6709AD96C8C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t Implementation Success Re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696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antity of Safety Nets Reques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2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rcRect l="0" t="15204" r="0" b="5141"/>
          <a:stretch/>
        </p:blipFill>
        <p:spPr>
          <a:xfrm>
            <a:off x="152280" y="1676520"/>
            <a:ext cx="8674200" cy="4724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17570-4375-4B64-A9EC-DCC3546E165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t Implementation Success Re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696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antity of Safety Nets without E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ntity of orders where EDI was not received by the time the order was work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2.1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rcRect l="0" t="16491" r="0" b="5141"/>
          <a:stretch/>
        </p:blipFill>
        <p:spPr>
          <a:xfrm>
            <a:off x="228600" y="1905120"/>
            <a:ext cx="8674200" cy="4647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7EC9A-83A1-4B67-BE01-31A9618B7F7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t Implementation Success Re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current Proces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current processing of transactions was a major part of Stacking.  The following details the occurrences of multiple service orders completing successfully – Benefits 1,2,3,4,&amp; 6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304920">
              <a:spcBef>
                <a:spcPts val="499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Move-Ins – 5810 occurren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304920">
              <a:spcBef>
                <a:spcPts val="499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rop to AREP prior to a Move-In - 302 occurren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304920">
              <a:spcBef>
                <a:spcPts val="499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rop to AREP prior to a Switch - 102 occurren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304920">
              <a:spcBef>
                <a:spcPts val="499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witch prior to a Move-In - 102 occurren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304920">
              <a:spcBef>
                <a:spcPts val="499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witch prior to a Move-Out - 73 occurren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304920">
              <a:spcBef>
                <a:spcPts val="499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Switches – 44 occurren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304920">
              <a:spcBef>
                <a:spcPts val="499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rop to AREP prior to a Move-Out - 27 occurren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ders were successfully processed concurrently a total of 6460 times in August and Septe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E6A2B-86FC-4698-AE7E-5A25C6B713D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t Implementation Success Re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ther Stacking Sta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3049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re has been a 17.8% reduction in the average number of rejects for Move-Ins leapfrogging. (1.6.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3049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Move-Out retry is effective in allowing appropriate Move-Outs to be processed instead of being rejected. (4.1.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3049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ensure that Move-Outs and Drop to AREPs are properly authorized, ERCOT is canceling Move-Outs and Drop to AREPs at the evaluation window if the REP is no longer the REP of Record. (4.2.1 - Benefits 3, 5, &amp;6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19320" indent="-3049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gust and September Volume – 178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3049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RCOT is successfully canceling Move-Outs when they are scheduled on the same day as a Move-In on the same ESI ID.  This contributes to market synchronization. (4.4.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19320" indent="-3049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gust and September volume - 566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57F0F-07AA-4B47-8510-BBFB755B9F6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t Implementation Success Re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ther Stacking Sta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nt.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3049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rop to AREPs are being successfully canceled when scheduled on the same ESI ID as a Switch with the same or later date.  This is helping to enforce the customers right to choose. (4.5.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19320" indent="-3049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gust and September Volume – 183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3049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new iteration counter is allowing REPs to submit multiple Date Changes on a single order and these are helping to ensure the customer is getting the last date they requested.  (4.13.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3049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participants are now electronically notified of Duplicate transactions.  (4.14.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19320" indent="-3049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gust and September Volume = 93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3049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DSPs are effectively rejecting backdated Move-Ins and Move-Outs that are not part of a coordinated back-office cleanup.  (5.4.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19320" indent="-3049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gust and September Volume = 169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C6735-225C-4A2D-9870-8020375E395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t Implementation Success Re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78487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enefits Expec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as presented to RMS prior to implement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gnificant reduction in NFI reject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gnificant reduction in need for Safety Net Move-I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ter manages customer expectations (Dates, billing, etc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wer backdated clean up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wer Cancel/Re-bi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lps keep systems in syn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duces UF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duces transaction volu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dites connecting and billing the customers by the correct C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proves transaction reliabi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52CBB-D629-4475-9551-D3012E81476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t Implementation Success Re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ction It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oes RMS want statistics next month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 so, are these adequate with October added, or are additional statistics desir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B396C-F386-4A70-96F6-92B21842F64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t Implementation Success Re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enefits Expected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grouped into 8 categori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30492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gnificant reduction in NFI reject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19320" indent="-3049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7 statis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30492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gnificant reduction in need for Safety Net Move-In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19320" indent="-3049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6 statis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30492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pedites connecting and billing the customers by the correct CR / Better manages customer expectations (Dates, billing, etc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19320" indent="-3049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6 statis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30492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ewer Cancel/Re-bills / Helps keep systems in syn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19320" indent="-3049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 statis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30492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duces UFE / Helps keep systems in syn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19320" indent="-3049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 statis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30492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ewer backdated clean up efforts / Helps keep systems in syn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19320" indent="-3049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 statis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30492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duces transaction volu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19320" indent="-3049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7 statis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30492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roves transaction reli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19320" indent="-3049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 statis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4F6CC-E579-4E76-9078-DD0EFDC6D13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t Implementation Success Re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cent of NFI Rejects by Order 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1.1 – Benefits 1,2,3,&amp;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rcRect l="0" t="15416" r="0" b="4928"/>
          <a:stretch/>
        </p:blipFill>
        <p:spPr>
          <a:xfrm>
            <a:off x="165240" y="1676520"/>
            <a:ext cx="8673840" cy="4724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C43ED-8E1D-4CC8-8E22-19E84175CDA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t Implementation Success Re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696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antity of NFI Rejects by Order 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1.2 – Benefits 1,2,3,&amp;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rcRect l="0" t="16491" r="0" b="6421"/>
          <a:stretch/>
        </p:blipFill>
        <p:spPr>
          <a:xfrm>
            <a:off x="241200" y="1905120"/>
            <a:ext cx="8674200" cy="4572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0E794-9AE1-4A06-A886-CD816DB62D5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t Implementation Success Re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696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antity of All Rejects by Order 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jects for DUP – Duplicate and DOT – Duplicate Original Transaction Id have been remo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1.4b – Benefits 1,2,&amp;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rcRect l="0" t="16491" r="0" b="3854"/>
          <a:stretch/>
        </p:blipFill>
        <p:spPr>
          <a:xfrm>
            <a:off x="241200" y="1828800"/>
            <a:ext cx="8674200" cy="487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9382C-95E6-4346-A4AD-06CE1541458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t Implementation Success Re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696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ccess Rate of Accepted Move-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letion percentage of orders once they have been accepted – does not include rejected reques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3.2 – Benefits 1 &amp;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rcRect l="0" t="16594" r="6956" b="5032"/>
          <a:stretch/>
        </p:blipFill>
        <p:spPr>
          <a:xfrm>
            <a:off x="311040" y="1905120"/>
            <a:ext cx="8070840" cy="4647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E384C-637D-4D94-A691-8922A4DE2DA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t Implementation Success Re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696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antity of Backdated Move-In Reque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sures Move-Ins with a requested date that is earlier than the date the request is received by ERC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6.1 – Benefits 1,2,4,6,7, &amp;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rcRect l="0" t="16703" r="6956" b="6209"/>
          <a:stretch/>
        </p:blipFill>
        <p:spPr>
          <a:xfrm>
            <a:off x="463680" y="1905120"/>
            <a:ext cx="8070840" cy="4572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8FBA3-AE0E-4903-98C7-9D43AD786FD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t Implementation Success Re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696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antity of Re-Bills on Final Us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rics for Move-Ins and Switche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4.1 – Benefits 1,2,3, &amp;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rcRect l="0" t="16594" r="6956" b="5032"/>
          <a:stretch/>
        </p:blipFill>
        <p:spPr>
          <a:xfrm>
            <a:off x="235080" y="1828800"/>
            <a:ext cx="8070840" cy="4648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228D8-7AB8-42B1-B35A-A80B71BCFEF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29T21:45:07Z</dcterms:created>
  <dc:creator>kcotner</dc:creator>
  <dc:description/>
  <dc:language>en-US</dc:language>
  <cp:lastModifiedBy>gwingerd</cp:lastModifiedBy>
  <cp:lastPrinted>2002-09-24T18:27:58Z</cp:lastPrinted>
  <dcterms:modified xsi:type="dcterms:W3CDTF">2004-10-18T22:00:16Z</dcterms:modified>
  <cp:revision>400</cp:revision>
  <dc:subject/>
  <dc:title>PowerPoint Presentation</dc:title>
</cp:coreProperties>
</file>